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88920" indent="-8892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5" name="Line 5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8" name="Line 8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9" name="Line 9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" name="Line 10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2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2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3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7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7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0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2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3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98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0" name="Picture 4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1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6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14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4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5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6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197" name="Line 4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9" name="Picture 6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200" name="Line 7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6640" indent="-11664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242" name="Line 3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43" name="Picture 4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6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246" name="Picture 7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8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marL="44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44280" indent="-4428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88" name="Group 11"/>
          <p:cNvGrpSpPr/>
          <p:nvPr/>
        </p:nvGrpSpPr>
        <p:grpSpPr>
          <a:xfrm>
            <a:off x="495360" y="6413400"/>
            <a:ext cx="12014280" cy="2806560"/>
            <a:chOff x="495360" y="6413400"/>
            <a:chExt cx="12014280" cy="2806560"/>
          </a:xfrm>
        </p:grpSpPr>
        <p:sp>
          <p:nvSpPr>
            <p:cNvPr id="289" name="Line 3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91" name="Picture 5" descr=""/>
            <p:cNvPicPr/>
            <p:nvPr/>
          </p:nvPicPr>
          <p:blipFill>
            <a:blip r:embed="rId3"/>
            <a:stretch/>
          </p:blipFill>
          <p:spPr>
            <a:xfrm>
              <a:off x="123825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"/>
            <p:cNvPicPr/>
            <p:nvPr/>
          </p:nvPicPr>
          <p:blipFill>
            <a:blip r:embed="rId4"/>
            <a:stretch/>
          </p:blipFill>
          <p:spPr>
            <a:xfrm>
              <a:off x="4953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Line 9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6516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4097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8543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35" name="Line 2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3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3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7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80" name="Line 1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81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84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Line 6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7" name="Line 8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Screen Shot 2014-08-16 at 4.57.36 pm.png"/>
          <p:cNvPicPr/>
          <p:nvPr/>
        </p:nvPicPr>
        <p:blipFill>
          <a:blip r:embed="rId3"/>
          <a:stretch/>
        </p:blipFill>
        <p:spPr>
          <a:xfrm>
            <a:off x="453960" y="196920"/>
            <a:ext cx="12169800" cy="921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30320" y="555120"/>
            <a:ext cx="731340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The Pledge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25600" y="1275840"/>
            <a:ext cx="11880720" cy="813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674b23"/>
                </a:solidFill>
                <a:latin typeface="Arial"/>
                <a:ea typeface="Arial"/>
              </a:rPr>
              <a:t>I promise…</a:t>
            </a:r>
            <a:endParaRPr b="0" lang="en-US" sz="54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onour God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use kind words 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treat all people fairly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not to make fun of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elp my friend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include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show the G.R.E.A. T value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    </a:t>
            </a: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n all I do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lasshouse Country Christian College</cp:lastModifiedBy>
  <dcterms:modified xsi:type="dcterms:W3CDTF">2014-08-18T02:15:08Z</dcterms:modified>
  <cp:revision>76</cp:revision>
  <dc:subject/>
  <dc:title>Ideas</dc:title>
</cp:coreProperties>
</file>